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8981-276E-405A-9D4A-F6FCEE47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C195-B15D-4CF0-92D7-C2296805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F416-96F1-49FF-8AAD-19D2956E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74A3-C132-40AE-9FF0-F78C53F5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D6B2-C0F1-4B98-BC13-FC5B84AE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AF38-2B30-41F2-A67F-A040617C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ED4C-0E8F-4D29-8DC9-C6BD657B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B210-B1FF-44FF-BB7D-3309E7CA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1ECA-6860-4312-9FE8-679C8805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2DAA-D6E2-4386-B026-BA9C3C33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B78-ADE4-4EDC-BB0A-AB3824C6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1C61-2EB9-4506-896A-3A9B4CEB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6D70-0BB3-4BC5-AA0D-E7F495A03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6160" y="1015560"/>
            <a:ext cx="4682880" cy="4618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eek One-Face to Face Class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247320" y="0"/>
            <a:ext cx="970596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urier new"/>
              </a:rPr>
              <a:t>21st Century Learner PDLA</a:t>
            </a:r>
            <a:br>
              <a:rPr sz="3700"/>
            </a:b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Course Structur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6160" y="1419120"/>
            <a:ext cx="9758160" cy="1387080"/>
          </a:xfrm>
          <a:prstGeom prst="rect">
            <a:avLst/>
          </a:prstGeom>
          <a:solidFill>
            <a:srgbClr val="e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note Spea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ing of 21st Century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 out sess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ademic Choice-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 deepen understanding of 21st century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 common online communication tool to be used for distance learning throughout the couse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6160" y="3556080"/>
            <a:ext cx="4705200" cy="304200"/>
          </a:xfrm>
          <a:prstGeom prst="rect">
            <a:avLst/>
          </a:prstGeom>
          <a:solidFill>
            <a:srgbClr val="0b53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eek 2&amp;3-Online Learning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6160" y="3962520"/>
            <a:ext cx="9717120" cy="231480"/>
          </a:xfrm>
          <a:prstGeom prst="rect">
            <a:avLst/>
          </a:prstGeom>
          <a:solidFill>
            <a:srgbClr val="6fa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ekly response coupled with counter responses to help create true online dialog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6160" y="4470480"/>
            <a:ext cx="4682880" cy="304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eek 4-Elluminate Session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6160" y="4875120"/>
            <a:ext cx="9702720" cy="462600"/>
          </a:xfrm>
          <a:prstGeom prst="rect">
            <a:avLst/>
          </a:prstGeom>
          <a:solidFill>
            <a:srgbClr val="e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course check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ing centered on 21st century learner and ethical iss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160" y="5892840"/>
            <a:ext cx="4735440" cy="304200"/>
          </a:xfrm>
          <a:prstGeom prst="rect">
            <a:avLst/>
          </a:prstGeom>
          <a:solidFill>
            <a:srgbClr val="0b53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eek 5&amp;6-Online Learning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6160" y="6299280"/>
            <a:ext cx="9717120" cy="231480"/>
          </a:xfrm>
          <a:prstGeom prst="rect">
            <a:avLst/>
          </a:prstGeom>
          <a:solidFill>
            <a:srgbClr val="6fa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ekly response coupled with counter responses to help create true online dialog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6160" y="6807240"/>
            <a:ext cx="4708440" cy="304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eek 7-Face to Face 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6160" y="7213680"/>
            <a:ext cx="9725040" cy="231480"/>
          </a:xfrm>
          <a:prstGeom prst="rect">
            <a:avLst/>
          </a:prstGeom>
          <a:solidFill>
            <a:srgbClr val="e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ing show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58680" y="0"/>
            <a:ext cx="8207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urier new"/>
              </a:rPr>
              <a:t>Initial Face to Face Clas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360" y="1117440"/>
            <a:ext cx="1895400" cy="7383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:00-10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79520" y="1116000"/>
            <a:ext cx="3587760" cy="693720"/>
          </a:xfrm>
          <a:prstGeom prst="rect">
            <a:avLst/>
          </a:prstGeom>
          <a:solidFill>
            <a:srgbClr val="e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note Speak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21st Century Lear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40520" y="1116000"/>
            <a:ext cx="3606840" cy="924840"/>
          </a:xfrm>
          <a:prstGeom prst="rect">
            <a:avLst/>
          </a:prstGeom>
          <a:solidFill>
            <a:srgbClr val="e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st Century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u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ded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hical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6160" y="3143160"/>
            <a:ext cx="1895400" cy="738360"/>
          </a:xfrm>
          <a:prstGeom prst="rect">
            <a:avLst/>
          </a:prstGeom>
          <a:solidFill>
            <a:srgbClr val="0b53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:15-11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79520" y="3141720"/>
            <a:ext cx="2248200" cy="924840"/>
          </a:xfrm>
          <a:prstGeom prst="rect">
            <a:avLst/>
          </a:prstGeom>
          <a:solidFill>
            <a:srgbClr val="6fa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oo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esented by experienced user in the distr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21200" y="3149640"/>
            <a:ext cx="2228760" cy="924840"/>
          </a:xfrm>
          <a:prstGeom prst="rect">
            <a:avLst/>
          </a:prstGeom>
          <a:solidFill>
            <a:srgbClr val="6fa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oo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esented by experienced user in the distr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61360" y="3141720"/>
            <a:ext cx="2238120" cy="924840"/>
          </a:xfrm>
          <a:prstGeom prst="rect">
            <a:avLst/>
          </a:prstGeom>
          <a:solidFill>
            <a:srgbClr val="6fa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ool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esented by experienced user in the distr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6160" y="2641680"/>
            <a:ext cx="35528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reakout Session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6160" y="4470480"/>
            <a:ext cx="1893600" cy="738360"/>
          </a:xfrm>
          <a:prstGeom prst="rect">
            <a:avLst/>
          </a:prstGeom>
          <a:solidFill>
            <a:srgbClr val="0b53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:00-11: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79520" y="4470480"/>
            <a:ext cx="2246400" cy="924840"/>
          </a:xfrm>
          <a:prstGeom prst="rect">
            <a:avLst/>
          </a:prstGeom>
          <a:solidFill>
            <a:srgbClr val="6fa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oo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esented by experienced user in the distr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21200" y="4470480"/>
            <a:ext cx="2246400" cy="924840"/>
          </a:xfrm>
          <a:prstGeom prst="rect">
            <a:avLst/>
          </a:prstGeom>
          <a:solidFill>
            <a:srgbClr val="6fa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oo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esented by experienced user in the distr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1360" y="4470480"/>
            <a:ext cx="2246040" cy="924840"/>
          </a:xfrm>
          <a:prstGeom prst="rect">
            <a:avLst/>
          </a:prstGeom>
          <a:solidFill>
            <a:srgbClr val="6fa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ool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esented by experienced user in the distr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6160" y="6095880"/>
            <a:ext cx="1893600" cy="7383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:45-1: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79520" y="6095880"/>
            <a:ext cx="3587760" cy="924840"/>
          </a:xfrm>
          <a:prstGeom prst="rect">
            <a:avLst/>
          </a:prstGeom>
          <a:solidFill>
            <a:srgbClr val="e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arn how to use common communication 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40520" y="6095880"/>
            <a:ext cx="3605040" cy="693720"/>
          </a:xfrm>
          <a:prstGeom prst="rect">
            <a:avLst/>
          </a:prstGeom>
          <a:solidFill>
            <a:srgbClr val="e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ting up communication tool and practice using communication 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